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36B-4DB8-4252-8A8D-704800F4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0DE-FD0F-4573-9F00-612AA275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009-591C-4C82-B11D-EA5C8419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C65-1B86-4269-AC74-5C0BBFC8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726-B9EA-402A-AE7B-934B8D5E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48C-611D-4CE7-8A01-D7A92B9A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90E-ECCA-42EB-ABB7-867BC394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315-A200-41EE-8F0A-0E6BD8CA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66B-0388-4984-883B-CB9B2C20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075-AC46-42D5-AE50-C4DF65DC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3C1-494A-488A-8F8A-1ED5F11A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04EA-0545-40FB-B213-DF2AC670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C7F4-62B6-4402-93EE-B56AA94EA2D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Plate Boundari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servative Plate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0.static.wix.com/media/caf82be5173cd8fb97b1976e06f7d700.wix_mp"/>
          <p:cNvPicPr/>
          <p:nvPr/>
        </p:nvPicPr>
        <p:blipFill>
          <a:blip r:embed="rId1"/>
          <a:stretch/>
        </p:blipFill>
        <p:spPr>
          <a:xfrm>
            <a:off x="1908000" y="1268280"/>
            <a:ext cx="525636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llision Mar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here two continental crusts collide neither can sink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nstead they push into each other forcing material to be folded up into huge mountain rang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Often this movement and pressure can cause earthquakes, but no volcanoes will occur on these boundari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best example is found where the Indian plate collided with the Eurasian plate to form the Himalaya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llision Mar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classroomatsea.net/resources/posters/images/collision.jpg"/>
          <p:cNvPicPr/>
          <p:nvPr/>
        </p:nvPicPr>
        <p:blipFill>
          <a:blip r:embed="rId1"/>
          <a:stretch/>
        </p:blipFill>
        <p:spPr>
          <a:xfrm>
            <a:off x="1619280" y="2205000"/>
            <a:ext cx="597708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estructive Plate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 known a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vergent boundari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r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compressional bounda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cause violent volcanoes and earthquakes, as well as deep-ocean trenches and fold mountai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oceanic plate and continental plate move towards each oth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nser oceanic plate dives under the lighter continental one, creating a deep ocean tren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estructive Plate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s the oceanic plate goes deeper into mantle it melts in the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ubduction zone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 due to friction and the increased temperatur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newly molten rock is lighter that that which surrounds it, so it will rise towards the surface and cause volcanoes on the earth's surfac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continental crust is crumpled by the collision of the two plates creating Fold Mountain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f the magma rises offshore it will form an Island Arc, like the West Indies and Japan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530028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ood example of a destructive plate boundary is where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zc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late dives underneath the South American plate. This has caused volcanoes, earthquakes and the formation of the Andes Mountain R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4.bp.blogspot.com/_QyvQdYRsWp4/Sd5FnMeLMYI/AAAAAAAAAGQ/7yq6zq91ng8/s320/convergent_boundaries.gif"/>
          <p:cNvPicPr/>
          <p:nvPr/>
        </p:nvPicPr>
        <p:blipFill>
          <a:blip r:embed="rId1"/>
          <a:stretch/>
        </p:blipFill>
        <p:spPr>
          <a:xfrm>
            <a:off x="1344600" y="31680"/>
            <a:ext cx="640872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structive Plate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lso known as divergent or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tensional boundari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lthough often not as violent as those on destructive plate boundaries, volcanoes and earthquakes do occur on constructive plate boundari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y also cause mid-ocean ridges to form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wo plates move away from each other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olten rock (magma) rises from the mantle to fill the gap between the two plat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s forms a mid-ocean ridg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structive Plate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Volcanoes can also form here, along the edges of the plate boundary, due to the rising magma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se volcanoes are called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shield volcano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 good example of a constructive plate boundary can be found where the North American plate is moving away from the Eurasian plate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has caused the Mid-Atlantic ridge to form and has created Iceland through volcanic activit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structive Plate Bound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revisionworld.co.uk/files/seafloor.jpg"/>
          <p:cNvPicPr/>
          <p:nvPr/>
        </p:nvPicPr>
        <p:blipFill>
          <a:blip r:embed="rId1"/>
          <a:stretch/>
        </p:blipFill>
        <p:spPr>
          <a:xfrm>
            <a:off x="179280" y="1700280"/>
            <a:ext cx="875988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servative Plate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known as passiv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te bounda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in effects of a conservative plate boundary are earthquakes, which can be fairly violent and frequ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plates slide past each other, without creating or destroying any 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nservative Plate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y move past each other they often get stuck, building up great pressure until finally they jolt past each 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udden movement is what causes earthquak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-known example of a conservative plate boundary is the San Andreas Fault, where the North American and Pacific plates are actually moving in the same direction, but at a different spe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4:21:55Z</dcterms:created>
  <dc:creator>Dell_02</dc:creator>
  <dc:description/>
  <dc:language>en-US</dc:language>
  <cp:lastModifiedBy>Dell_02</cp:lastModifiedBy>
  <dcterms:modified xsi:type="dcterms:W3CDTF">2011-01-26T05:21:24Z</dcterms:modified>
  <cp:revision>3</cp:revision>
  <dc:subject/>
  <dc:title>Plate Boundaries</dc:title>
</cp:coreProperties>
</file>